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DAC-7CDD-4FA6-96C7-4FEDBEA8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091-4125-4363-A78D-BFC7219B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EC0-3805-45FA-B68B-7DB864E2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AA4-DF9F-4F8A-A835-AEE9D5E6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9B7C-01E7-46C4-9F27-72F1A6DE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333-313A-4D17-9C68-51014DEB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73C-FB70-4FA1-9FED-46596C75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D01-70F1-4BFE-A5AE-F0DA134B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9DB-9CCB-42A1-8B2F-E04E8946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09A-F299-4C5D-8355-B41A8941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BD5-8C84-4870-AD6B-B424FAAD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206-3FE2-443A-B418-F574D8DF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4F03-F01C-447C-9F30-94119E4DA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20:58Z</dcterms:created>
  <dc:creator>User</dc:creator>
  <dc:description/>
  <dc:language>en-US</dc:language>
  <cp:lastModifiedBy>User</cp:lastModifiedBy>
  <dcterms:modified xsi:type="dcterms:W3CDTF">2009-12-07T14:23:27Z</dcterms:modified>
  <cp:revision>1</cp:revision>
  <dc:subject/>
  <dc:title>Slide 1</dc:title>
</cp:coreProperties>
</file>